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AE8-3810-414A-899A-FEB4EF4F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CE1-6CBE-4CC6-8071-DAFC675B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5B2-DD6E-42FC-A0CB-CA54B514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9F9-0333-4A56-A97C-997ADB7C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73E6-E3BA-4531-9D70-5D492185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86CF-D6A8-4315-9856-668566F3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9736-4267-4AF9-B9B6-485624D4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34C2-EDC0-4CEC-BE8D-AD867A05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2EC0-BF96-46B2-923B-AAB973A4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D512-7767-429F-A1C8-57AEFEE9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92A9-E8AF-4F55-BC03-EDA534BA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8F8-F3A2-4E5D-ADE4-FB5195F7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26B2-83A1-4B0B-BA6A-A6D5737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B573-814B-42FA-A2F5-5F1EE20E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BDAA-DFAF-4FAE-9C5C-3D8BAC1B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4BF9-98B1-4161-9CC5-76727795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CA6D-C8C1-475C-9057-CC18FF9A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698-6D92-471F-BCFA-5A2EE242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119-D0EF-4BDF-9CF9-62A104C7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179-9C57-4BE8-971D-8D824659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120-7DE3-4EAE-B9A8-705792D5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3F0-BEE2-413E-82DE-AB23B7B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7F9-65E2-48D2-A98E-733604DB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14D-604A-474D-939E-70B2BFE3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52B9-4092-4438-9A12-09E5D43AC9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6397-5482-4119-AA41-3D2FB6E5F42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19047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996600"/>
                </a:solidFill>
                <a:latin typeface="Times New Roman"/>
              </a:rPr>
              <a:t>Lesson 6</a:t>
            </a:r>
            <a:br>
              <a:rPr sz="5400"/>
            </a:br>
            <a:r>
              <a:rPr b="0" i="1" lang="zh-CN" sz="5400" spc="-1" strike="noStrike">
                <a:solidFill>
                  <a:srgbClr val="996600"/>
                </a:solidFill>
                <a:latin typeface="Times New Roman"/>
              </a:rPr>
              <a:t> Percy Buttons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94920" y="304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omprehension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Where have you just move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What happened one 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What did he ask you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Did he pay you for the meal and be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What did he do in return fo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Who told you about him l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Is he well-known in Bridge stre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What’s he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Has he called on you bef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How often does he call on the houses in Bridge stre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have just moved to a house in Bridge Street. Yesterday a begga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cked a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my door. 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ked me for a me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a glass of beer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 return 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is, the begga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od on his he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sang songs. I gave him a meal. He ate the food and drank the beer. Then he put a piece of cheese in his pocket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n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neighbou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ld me about hi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Everybody knows him. His name is Percy Buttons. 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lls at every hou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 the street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ce a mon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always asks for a meal and a glass of be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Tell the story according to the following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just moved----Bridge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Yesterday---beggar knocked ---the 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asked ---meal---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In return---stood---s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ate food---drank---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Then---piece of cheese---pocket---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 Later---nighbour---abou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Everybody---him---name---Percy But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 calls---house---street once a---and---asks---meal---glass of 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Summary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writer has just moved to a house in Bridge Street. A beggar knocked at her dor yesterday. He sang songs. The writer gave him a meal and a glass of beer in return for this. The beggar’s name is Percy Buttons. He calls at every house in the street once a mon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Ask sb for sth=ask sth of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向某人索要某物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ask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问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询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He asked the teacher for three days’sick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向老师请了三天病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Have I asked you for too much?=Have I asked too much of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向你要求得太多了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e asked me for 5 yu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After the class, he asked me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949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In return (for)      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作为报答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回报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交换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I often help him with his English and he gives me film tickets in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经常帮助他学英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给我电影票作为报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约翰送给老太太一束鲜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报答她的慈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gave the old lady a bunch of flowers in return for her kind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汤姆买你的自行车付了多少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much did Tom give you in return for the b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d54f41"/>
                </a:solidFill>
                <a:latin typeface="Times New Roman"/>
              </a:rPr>
              <a:t>Call at someplace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拜访某个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d54f41"/>
                </a:solidFill>
                <a:latin typeface="Times New Roman"/>
              </a:rPr>
              <a:t>Call on somebody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拜访某个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I shall call at your house this ev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今晚要来登门拜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a) Tom calls at Green’s office this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 Tom calls on Green this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6:13:12Z</dcterms:created>
  <dc:creator/>
  <dc:description/>
  <dc:language>en-US</dc:language>
  <cp:lastModifiedBy>st</cp:lastModifiedBy>
  <dcterms:modified xsi:type="dcterms:W3CDTF">2002-07-10T07:00:15Z</dcterms:modified>
  <cp:revision>4</cp:revision>
  <dc:subject/>
  <dc:title>Lesson 6  Percy Buttons</dc:title>
</cp:coreProperties>
</file>